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EDD3D-082D-439B-99D1-980A56C711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27A87-8F70-4564-9F57-29363DFA29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D741D-19D8-4B0F-94F9-C2E9B8A85B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6C30B-3A49-467C-B273-9B65006736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B5D07-5BF5-4871-B197-6C9EAED7DD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CA6F7-370F-446C-9791-46C9F6E127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A1F5F-4616-4B4E-B8AF-9D3BFDCCFA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21C2E-D0D3-483E-8CB9-E6C72053C3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6E553-0AC4-4A39-BA17-3C896D89EDE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F4F82-0D8C-4ED2-AC30-C5DCFFC52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CA1DE-33F8-4137-9EB3-6EC05CE86D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E09B3-EF58-44DD-8C08-B6896D00FB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F1608-AA68-438C-98E9-A1A9B993DC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61533-D30E-4807-A9D1-6E7C066BC7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03BF2-5F30-4881-9BA9-31F8387822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E0A5D-D5B9-4BAA-A9FA-C67C872881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0C0B3-0F33-4F9A-9134-873CA91C28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7D9E4-35A0-4AAF-ACA4-F00D6DB629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773BF-ED37-4FAF-8307-5E74B04FB2C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DC70C-8716-4777-9CB1-2D323B86D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D8A38-AC30-42D4-A465-5F290F03BC8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F7B6-23D9-4C46-8352-C86D5412D8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EF10-5C7F-4899-ACA5-695CF6E474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F751-7DAE-4145-9B24-126FCDDEC0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7CF5-8367-4614-A460-43429D6188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E6FA-C493-4AA1-8449-6A611361EE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95B0-D1AE-44A9-93A2-8AB3756F6EC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3D46-25ED-4217-B094-3DBDB229FF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6539-8818-4A37-844D-59AB3ECEED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75D4-8B68-4B60-8F90-791900966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92CC-915B-4CFA-A227-FE53151823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A564-58F6-4B41-979D-EC7DE5314B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44E9-AE85-428E-A28E-0C22118B7E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3BD56-C2B9-4A9B-AA47-8E2500D1D3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9ECDA-490E-4424-A245-72640409B6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C9C1F-BF29-47C5-980A-42B67071AF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9240A-0789-4BDD-9977-6D52758ED9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ADE85-4D0E-4FD5-BC81-8951DAD222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4E384-3092-44CE-A690-BD02A5AB3D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57EA7-8A25-4054-A5C5-268D360E41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294E6-0240-4E0C-82A9-4A15C81DE1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241C4-A2F5-4CB9-9753-0D7F2DE95F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313A2-78C2-41FC-A0A4-6B24F82916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32FFA-9C00-4F32-AA9F-AECDA77CF3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0C63A-50EF-4E82-9551-7014358A71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4DAD6-33C9-42D8-819B-9BE2D4ACDC4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753E9-4AC7-4016-BE6F-177C3F8B99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1CC15-030B-4CE5-A4B6-ECAA62C5F4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A5C4A-A86F-4572-902D-DD631C45EC9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EAFC2-A656-43C7-B6E9-0A8435918E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6296B-7131-4B2F-8F26-910F59ABF2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38132-531A-4DE0-B3CD-0633206E5E2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8C619-7E69-40E7-A7CC-F6E6EA8C07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5E165-D10C-4D80-BA1C-D3181E760C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470BA-E9AA-4945-9970-1189F87D36B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BBBE6-976F-4495-A26B-BA549B483F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C6A9C-4254-4E6D-9332-F1B8F28ECE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384BD-0F46-4AF0-BF30-8E95912C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F6F9C-3F3C-446B-B37D-C7D744D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200F9-3591-4C6F-9253-089A375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EBD26-61EB-4A43-9AFE-E65AEE4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73CD1-5E0C-439A-AE94-D48EEB7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7F908-D353-4D39-89D8-AAA69D6B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39BCC-6F65-4758-9D75-BF11A36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E43EA-30B2-4D44-AECB-F048FDF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9AFFA-5AB1-48A9-9447-8476735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8CF7C-D489-45E1-8970-F01AD041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B6568-3BAF-41E5-8254-85E4BECF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FB9FE-DCC2-44D4-9489-31EEF57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B1FBE-66D1-4313-83CA-EF77A6C0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3D7A0-2244-4E57-8995-BD0F735D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8AC14-32E3-4107-90DC-9927D77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E09FF-DD15-43B2-AD0D-33F313DF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8D989-07D5-48DC-B7FC-293692C4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74966-F3BC-4707-A6A8-836B84B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E2C34-AC02-4B93-B48F-A36E13B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8BF41-69B7-43D9-85C6-F8753DF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0FC90-0065-49B4-97F8-63CCBD1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33E1C-9044-4C57-BD9A-59FBCB43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3782A-E49E-42ED-96E5-7CA905E4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B5F8F-9405-4E93-9F14-683DF2B1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B26DD-2A3C-4148-A1A5-5BCE4A78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150D8-E847-475D-91FD-3EA0826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0C19D-AAF5-40BB-969F-6E165CE4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DD850-95D5-499E-86A0-61C9B55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653D1-1F55-4C56-8049-3CFAB5FC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CEDE0-5A61-453E-A080-16422888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D99C9-32A8-4054-8F12-C00651B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C25DF-9FA4-4192-9548-ADE6E8C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9ADBD-9710-4286-94C6-36A6460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A39EF-24C6-45E2-9DCF-5B7A90B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CE1AB-ABAA-46DE-8BED-42066F35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97C12-7EC4-454F-B066-6E77EA08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389B8-8015-4BFD-A85B-4E83415B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06C4A-9E6F-411D-A588-EDBB3691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317AC2-9160-4B56-BD1A-D48661B9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24C65-4004-49AA-9E28-0A2AB72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17948-CD10-4D7D-A9DC-3B60C80B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24C58-5D15-47BA-9D40-5B2317B2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47DC1-BBF9-4F41-A49E-1C8EB21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52BC9F-D9F7-4A18-8E62-0B3E223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042A9-86E9-42D4-9AA7-7FCC51A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431D7-A942-4D43-87C7-6585088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75F2F-7BB1-47E9-8B56-6163D40F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F3F94-C72E-4F25-A10E-36315C6B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D4E0A-C19E-45D6-A6B5-FDA10528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C13F9-5B94-4610-AD61-4C6118D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7FFF4-9983-4D3D-A964-297948B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A6A84-0037-48BF-B92B-362CB67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F6071-A8DB-4CEE-AD44-A657E3E4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E0377-ECBA-42A4-8944-53C7BB8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C272DA-0F2C-4D28-8B26-B294F25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59ADB-821B-4766-9FDD-E8BF900E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221D1-D1B9-4719-BC72-822E637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63DD3-9F8C-4CF3-801E-EF9F673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4E0E0-FC76-49EA-AB07-8E0DA841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E3646-5F93-4649-860D-9421606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00C528-3ADA-4029-88A7-24DBB9A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C5BA6-0A49-4323-8552-DACBC79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F60EB-69B5-4FB7-A636-A7126421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2D6B8F-D920-421E-9498-4846BBD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D0E28-E203-48F4-ADEF-7BBE33C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BA5882-FEC3-49F3-88F1-C01947B1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B040D3-B209-4F04-919E-2DE964D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FD295-3F14-4556-8EF7-8FDACB3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AE2414-984C-4582-9CBE-BBEDCC3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3B10E-2254-4DC2-A382-C7E275E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3AFFBA-212A-404C-8ED1-46BBF49D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6C4841-339A-4874-9F34-FCA07C47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CE7692-4544-4CD1-8E23-DAA54E5F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A7D182-4B26-4EB2-895B-504B98C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5DCA12-F241-4B9D-A99A-AD91C26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4062BA-6D92-4DFB-9396-2337C2D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874963-BE9E-4A0E-9B27-17E14D6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BA1E4C-9DA2-4397-80C6-04DF843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3867B1-DF87-4B38-B099-4CE36CA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C04BF3-DF4A-4C1A-8BBF-1162F47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347A34-BA02-4566-BEB4-1A805BD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0FD67D-F719-433E-96DA-65A987B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7A2B71-C677-4649-9746-4E2F9251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5E3485-207A-4C6C-ADA2-D41E4EC0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4222CE-E2CA-4AA8-8519-E9B90ECE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A9223C-3482-4BD1-8EFD-A06754D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200F98-CB49-4E33-B00C-B21321E3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2B4C1A-AED0-4AD7-A379-E9043D6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1F927-3FB4-4F9C-858D-B427A469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920877-D9B1-4D66-9749-C646F27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AF0DB7-3143-4BDD-9DEC-6D349DA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A946EF-BD35-4817-9EFD-B19146B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D89A42-2946-4FD8-932B-E1F69A9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CBAF-41C7-4F84-8AE2-861033574DA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147D7E-0FB4-457E-A1E4-69D1A45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CED26E-1747-433C-8382-D550DCBA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738B07-A2E0-455B-BC7A-E27C2EA7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7F963-9BCC-4177-821F-F5A4B4C2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106A30-2E0D-4379-AD6B-9E5750F1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9FAB34-0BD5-46A0-B07B-D303A3C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44AD9-003B-4A6D-AB4C-76A9A5D1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B0B5EF-BB2C-4B3E-B1E7-F041436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01AC89-F68D-42E0-9461-A7DFE83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0B88A-9762-4D19-B967-95D9181F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A391-E5A3-441E-A5C6-9E1D24E23EF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2238BA-0550-4693-87EF-A021530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4A10F0-135A-456C-9871-990CED4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CCE6B6-2412-4E4D-BA68-CB63095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FBD02-C43B-4A3F-A915-9555CD15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10BA40-355C-4E99-A28E-642A82BC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4384F7-58BF-40BA-8736-0F8F920B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5E93E2-E00F-40CD-A95C-E9F4873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082177-93B5-4141-84CA-774A67A4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FB1BE3-4981-4951-BAEB-3BEC467F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508C5E-8EFA-4CAD-9BAC-F23510D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32FC-B85F-41EE-AB74-F8175328C38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DEBB83-A1A7-4D90-BAD6-A709A8C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819D4F-19AC-4AC0-BACE-B1D42B5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C9550A-5DF4-409F-9880-F606C41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55FD9-1CC3-4481-AB94-72CA4EB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F9614C-DE10-491A-BA1C-337BC14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D3761F-388A-4C84-AA73-D06386B5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3E5F47-5A40-4742-B084-6DF0D622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DB5C4F-70A6-44BF-9020-F8526622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720EEC-C849-4072-8110-2895F6D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EA5C82-ADEE-405F-BD8C-F2DB901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0F5A-AC24-4E64-995C-CEDEADBCA2F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4494F4-1622-4A6A-A7CB-1F44E4B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F08DE6-B51E-4497-B8B6-85F93AFA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C7CA12-5ECD-4F8E-83C7-F51B718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B0304D-9D1C-41BC-80FA-E98A86B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B1C806-2136-4E84-9D68-A8B3B62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B21B39-6FF5-4A10-9F11-D306E6A5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0DB9CB-AB05-4F78-8C40-8BDCD4D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0D7693-32F8-4A7D-B0D9-99BA984B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C5716D-1F48-4415-9CAD-FCB64C5E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A008-4BD2-4044-9B00-468A9F328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D22D-312B-4154-86D4-6A5822BC2F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4753-DAEB-4A11-91B2-95516BF378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FE25-7223-4225-8238-0CE3BFDC86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375A-F6CD-4401-B417-C34C3178C2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AD15-E2C0-4EB8-95DD-1A58A861F4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208-DDB6-44EB-BAA8-37B0662297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9C0D-E174-41D3-BD43-A0B590A61C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D68E-26CF-4550-92CF-C4189C0314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75CD-97EA-489E-88C8-D0FE40D388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BB7B-61B9-4BE0-98FF-79FA419A7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FE84-1F18-418A-842E-5F3E9E6899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1155-E465-42CA-91DB-7762AF00E8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9466-D07C-4539-A9D4-728F54DA74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2265-2439-4773-B2F7-80E9BD9F23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6DE3-4717-4BDA-A786-94726D0EDC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1818-11CC-4703-A626-A45F65C407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8856-BD1F-404B-8434-BBF86BB2B9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3A34-C5C4-4A60-B5DB-5E917B2B3C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3EF5-CBE0-4BCB-8893-047C007E07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E0F-0B30-482C-B69D-3610CA5DA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6C3-8141-4497-B478-2D8695584C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70F-773C-4F6C-B801-6327C21593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C77-6A73-47BD-A1A9-90F21DF8AF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93D-B2B3-47C4-8A16-F9366ED12D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CBB-0218-4D0B-8BEF-D8848C7211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630-03C8-40FA-B797-6D959B4804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3BA-B010-4A51-950A-67D63A9ACD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110-2DAA-4E28-9519-3353363325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AB3-A1F0-48D7-A760-B2B38DC831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EA0-F0DA-4649-94F2-EF511B3A2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A27-CB9F-44F9-A4E4-F806466502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59056-327F-4B24-A640-EE934D169F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21EE-504F-4C6D-AD2B-9C2A2E6A9F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10F7-1FBF-4207-93E9-8C8C4C88C1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BA78D-FFB6-44DE-9128-24005578E42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9C0F-7AD6-4E27-B94D-99BA760975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3651-929A-4DE2-8C8E-BA48714CA5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E674D-C2AB-47C8-833F-9F66DBBE9C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29513-3D99-4506-8D8E-DBF99E2E35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7FBC3-65E7-4262-8B7F-DEF61CA04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AD24-E04A-454D-B93F-A785D3C3D2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A74ED-C86D-4A1C-8B2E-7348732111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B61A5-6BF5-4447-B6B0-F25DD5AA1C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750F8-795F-494D-8B69-55CA9C102C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FCD20-8670-49A8-AF41-6EF613D7B4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E951-EFA0-4C86-BB8A-9B77CBF1CC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EFB7-733B-4CC3-98E4-FCEC882769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3982F-00B8-40EB-AEBB-00049A36D9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BC95-852E-4A2F-9BF0-02DE1EA00E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C918E-1DD2-4BE1-8489-ED4CC3F8B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EA636-48C5-4447-8E78-8C53F5092E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831FB-C268-453E-9E32-19D0C2A4A0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70697-967E-492A-9EF4-96D5212F30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24025-69B4-405C-8D92-C487CECD1F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5DA6-2D7E-46DF-ADAF-FCF7F8A849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F39-C642-4DE2-994D-9990773DA1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4021-C437-454F-9800-F2F659FE67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798-DF02-4FBA-A446-47616E1E3E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7E3E-7B96-4E70-A8C9-4F44915220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B8C7-A307-410B-A59A-87C515434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1744-2AC1-41E8-B774-16CC591C1C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1AAF-2FF9-4017-A970-9E465BC4E6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B15E-CA0B-449A-B3FC-A0CDC291B8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14CC-8B5F-4564-8E69-353D21C57E9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B1BD-5CD0-4BF4-9B77-38513DE323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23C-AEA9-46B2-B091-8532D5B617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7C46-B960-49A1-A984-5E36474988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E4318-012D-4DBF-BB70-FEA162C71C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C582E-719A-4206-9754-DEB1E43CCE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06644-9426-4CDB-9D38-FAC7717DA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BACF77-77D3-4487-B4C2-97093DD7657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A41A34-937F-4866-A256-0079FD70BB9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FF6563-EDFF-4B49-9DC8-88D02F4363B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921096-6BE9-41CA-85B3-CCA7C2D7725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2EA744-43DA-4F33-9AA2-47C51A62822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1F8DF4-9F41-4C7F-B5F1-337930F2813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136987-65A4-461C-81CB-1AC7028D557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51407A-10FE-4C5C-8AC4-5239FE33349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3CA085-9CE8-40F0-8E30-B6DBBD412B1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712FC5-AD91-4B2F-BF7E-D29DA8DB4EF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3D6071-EDDD-4472-9614-5516DF9E337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4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6D6F35-26C0-4710-AC86-0798ACA7E8A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8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99E70C-75D2-4194-BA05-6B732E13EF3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5B2AF-969D-43A0-B507-F3ABCE0C1D6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984240" y="90360"/>
            <a:ext cx="79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Geneva"/>
              </a:rPr>
              <a:t>que no son movimientos 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AFD764-9FC8-4D96-A928-484AA89D133F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5A8BBF-19B4-4ED4-B9AF-6440E331100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3924FD-2E29-40CB-BECB-98D33E35125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8B721B-0430-4123-8BDA-774B72FE4FA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B05557-CF73-43BB-A6F6-03F70AD0A43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6262A0-4591-495A-96B3-A13D7AFC627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E823E1-4818-4F54-94DA-AA32062DF03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2"/>
          <p:cNvSpPr/>
          <p:nvPr/>
        </p:nvSpPr>
        <p:spPr>
          <a:xfrm rot="5400000">
            <a:off x="-571680" y="571320"/>
            <a:ext cx="2208240" cy="10652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0" y="0"/>
            <a:ext cx="91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Genev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Genev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984240" y="9036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76320" y="64008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7507440" y="6278400"/>
            <a:ext cx="1711080" cy="578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7"/>
          <p:cNvSpPr/>
          <p:nvPr/>
        </p:nvSpPr>
        <p:spPr>
          <a:xfrm>
            <a:off x="826920" y="266688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RESPUESTAS DE LOS ANIMALE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QUE NO SON MOVIMIENTOS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Geneva"/>
              </a:rPr>
              <a:t>NI SECRE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6E12DE-A2AF-4636-A201-A228E913C26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ángulo 3"/>
          <p:cNvSpPr/>
          <p:nvPr/>
        </p:nvSpPr>
        <p:spPr>
          <a:xfrm>
            <a:off x="755640" y="1413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 de los movimientos y las secreciones, en el reino animal se producen otros tipos de respuestas a estímulo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7" name="Botón de acción: Personalizar 6"/>
          <p:cNvGrpSpPr/>
          <p:nvPr/>
        </p:nvGrpSpPr>
        <p:grpSpPr>
          <a:xfrm>
            <a:off x="6089760" y="3456000"/>
            <a:ext cx="2146320" cy="1135080"/>
            <a:chOff x="6089760" y="3456000"/>
            <a:chExt cx="2146320" cy="1135080"/>
          </a:xfrm>
        </p:grpSpPr>
        <p:pic>
          <p:nvPicPr>
            <p:cNvPr id="1068" name="Botón de acción: Personalizar 6" descr=""/>
            <p:cNvPicPr/>
            <p:nvPr/>
          </p:nvPicPr>
          <p:blipFill>
            <a:blip r:embed="rId1"/>
            <a:stretch/>
          </p:blipFill>
          <p:spPr>
            <a:xfrm>
              <a:off x="608976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6156360" y="3500280"/>
              <a:ext cx="201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Producción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de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0" name="Botón de acción: Personalizar 7"/>
          <p:cNvGrpSpPr/>
          <p:nvPr/>
        </p:nvGrpSpPr>
        <p:grpSpPr>
          <a:xfrm>
            <a:off x="3425760" y="3456000"/>
            <a:ext cx="2146320" cy="1135080"/>
            <a:chOff x="3425760" y="3456000"/>
            <a:chExt cx="2146320" cy="1135080"/>
          </a:xfrm>
        </p:grpSpPr>
        <p:pic>
          <p:nvPicPr>
            <p:cNvPr id="1071" name="Botón de acción: Personalizar 7" descr=""/>
            <p:cNvPicPr/>
            <p:nvPr/>
          </p:nvPicPr>
          <p:blipFill>
            <a:blip r:embed="rId2"/>
            <a:stretch/>
          </p:blipFill>
          <p:spPr>
            <a:xfrm>
              <a:off x="342576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3492360" y="350028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Producción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</a:rPr>
                <a:t>de lu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3" name="Botón de acción: Personalizar 8"/>
          <p:cNvGrpSpPr/>
          <p:nvPr/>
        </p:nvGrpSpPr>
        <p:grpSpPr>
          <a:xfrm>
            <a:off x="762120" y="3456000"/>
            <a:ext cx="2146320" cy="1135080"/>
            <a:chOff x="762120" y="3456000"/>
            <a:chExt cx="2146320" cy="1135080"/>
          </a:xfrm>
        </p:grpSpPr>
        <p:pic>
          <p:nvPicPr>
            <p:cNvPr id="1074" name="Botón de acción: Personalizar 8" descr=""/>
            <p:cNvPicPr/>
            <p:nvPr/>
          </p:nvPicPr>
          <p:blipFill>
            <a:blip r:embed="rId3"/>
            <a:stretch/>
          </p:blipFill>
          <p:spPr>
            <a:xfrm>
              <a:off x="762120" y="3456000"/>
              <a:ext cx="21463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826920" y="350028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  <a:ea typeface="Arial-BoldMT"/>
                </a:rPr>
                <a:t>Cambios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Arial-BoldMT"/>
                  <a:ea typeface="Arial-BoldMT"/>
                </a:rPr>
                <a:t>de co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6" name="Rectángulo 9"/>
          <p:cNvSpPr/>
          <p:nvPr/>
        </p:nvSpPr>
        <p:spPr>
          <a:xfrm>
            <a:off x="755640" y="5229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ulsa en los botones para saber m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ángulo 4"/>
          <p:cNvSpPr/>
          <p:nvPr/>
        </p:nvSpPr>
        <p:spPr>
          <a:xfrm>
            <a:off x="755640" y="1557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chos animales pueden cambiar el color de su piel a voluntad. Lo hacen para camuflarse en el entorno, para advertir a sus depredadores o para comunicarse con otros individuos de su especie (por ejemplo para el cortej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Cambios de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9" name="Botón de acción: Inicio 13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080" name="Botón de acción: Inicio 13" descr=""/>
            <p:cNvPicPr/>
            <p:nvPr/>
          </p:nvPicPr>
          <p:blipFill>
            <a:blip r:embed="rId1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2" name="Agrupar 16"/>
          <p:cNvGrpSpPr/>
          <p:nvPr/>
        </p:nvGrpSpPr>
        <p:grpSpPr>
          <a:xfrm>
            <a:off x="755640" y="2637000"/>
            <a:ext cx="3960720" cy="3456000"/>
            <a:chOff x="755640" y="2637000"/>
            <a:chExt cx="3960720" cy="3456000"/>
          </a:xfrm>
        </p:grpSpPr>
        <p:grpSp>
          <p:nvGrpSpPr>
            <p:cNvPr id="1083" name="Agrupar 11"/>
            <p:cNvGrpSpPr/>
            <p:nvPr/>
          </p:nvGrpSpPr>
          <p:grpSpPr>
            <a:xfrm>
              <a:off x="755640" y="2637000"/>
              <a:ext cx="3960720" cy="3456000"/>
              <a:chOff x="755640" y="2637000"/>
              <a:chExt cx="3960720" cy="3456000"/>
            </a:xfrm>
          </p:grpSpPr>
          <p:pic>
            <p:nvPicPr>
              <p:cNvPr id="1084" name="Imagen 6" descr="camaleon_bd.jpg"/>
              <p:cNvPicPr/>
              <p:nvPr/>
            </p:nvPicPr>
            <p:blipFill>
              <a:blip r:embed="rId2"/>
              <a:srcRect l="2739" t="0" r="8862" b="0"/>
              <a:stretch/>
            </p:blipFill>
            <p:spPr>
              <a:xfrm>
                <a:off x="864000" y="3347640"/>
                <a:ext cx="3498120" cy="274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Rectángulo 7"/>
              <p:cNvSpPr/>
              <p:nvPr/>
            </p:nvSpPr>
            <p:spPr>
              <a:xfrm>
                <a:off x="755640" y="2637000"/>
                <a:ext cx="39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El camaleón adapta su color al del medio en el que vive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Rectángulo 14"/>
            <p:cNvSpPr/>
            <p:nvPr/>
          </p:nvSpPr>
          <p:spPr>
            <a:xfrm>
              <a:off x="1979640" y="566100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amale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Agrupar 17"/>
          <p:cNvGrpSpPr/>
          <p:nvPr/>
        </p:nvGrpSpPr>
        <p:grpSpPr>
          <a:xfrm>
            <a:off x="4859280" y="2637000"/>
            <a:ext cx="3960720" cy="3456000"/>
            <a:chOff x="4859280" y="2637000"/>
            <a:chExt cx="3960720" cy="3456000"/>
          </a:xfrm>
        </p:grpSpPr>
        <p:grpSp>
          <p:nvGrpSpPr>
            <p:cNvPr id="1088" name="Agrupar 12"/>
            <p:cNvGrpSpPr/>
            <p:nvPr/>
          </p:nvGrpSpPr>
          <p:grpSpPr>
            <a:xfrm>
              <a:off x="4859280" y="2637000"/>
              <a:ext cx="3960720" cy="3456000"/>
              <a:chOff x="4859280" y="2637000"/>
              <a:chExt cx="3960720" cy="3456000"/>
            </a:xfrm>
          </p:grpSpPr>
          <p:sp>
            <p:nvSpPr>
              <p:cNvPr id="1089" name="Rectángulo 9"/>
              <p:cNvSpPr/>
              <p:nvPr/>
            </p:nvSpPr>
            <p:spPr>
              <a:xfrm>
                <a:off x="4859280" y="2637000"/>
                <a:ext cx="39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Los cefalópodos pueden cambiar de color con gran rapidez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90" name="Imagen 10" descr="pulpo_bd.jpg"/>
              <p:cNvPicPr/>
              <p:nvPr/>
            </p:nvPicPr>
            <p:blipFill>
              <a:blip r:embed="rId3"/>
              <a:srcRect l="3161" t="0" r="6233" b="0"/>
              <a:stretch/>
            </p:blipFill>
            <p:spPr>
              <a:xfrm>
                <a:off x="5058360" y="3350880"/>
                <a:ext cx="3654360" cy="2742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1" name="Rectángulo 15"/>
            <p:cNvSpPr/>
            <p:nvPr/>
          </p:nvSpPr>
          <p:spPr>
            <a:xfrm>
              <a:off x="6371640" y="342900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Pul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ángulo 4"/>
          <p:cNvSpPr/>
          <p:nvPr/>
        </p:nvSpPr>
        <p:spPr>
          <a:xfrm>
            <a:off x="755640" y="1628640"/>
            <a:ext cx="3311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bioluminiscencia o producción de luz por organismos está muy extendida entre los seres mari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e los seres terrestres, destaca el caso de las luciérna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s escarabajos generan una luz amarillo verdosa en el extremo de su abdomen para atraer al sexo opue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Producción de lu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4" name="Agrupar 2"/>
          <p:cNvGrpSpPr/>
          <p:nvPr/>
        </p:nvGrpSpPr>
        <p:grpSpPr>
          <a:xfrm>
            <a:off x="4716360" y="1341360"/>
            <a:ext cx="3600720" cy="4532400"/>
            <a:chOff x="4716360" y="1341360"/>
            <a:chExt cx="3600720" cy="4532400"/>
          </a:xfrm>
        </p:grpSpPr>
        <p:pic>
          <p:nvPicPr>
            <p:cNvPr id="1095" name="Imagen 1" descr="luciernaga_bd.jpg"/>
            <p:cNvPicPr/>
            <p:nvPr/>
          </p:nvPicPr>
          <p:blipFill>
            <a:blip r:embed="rId1"/>
            <a:srcRect l="0" t="12146" r="0" b="-3515"/>
            <a:stretch/>
          </p:blipFill>
          <p:spPr>
            <a:xfrm>
              <a:off x="4716360" y="1341360"/>
              <a:ext cx="3600720" cy="45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Rectángulo 14"/>
            <p:cNvSpPr/>
            <p:nvPr/>
          </p:nvSpPr>
          <p:spPr>
            <a:xfrm>
              <a:off x="5940720" y="14133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Luciérnag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Botón de acción: Inicio 8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098" name="Botón de acción: Inicio 8" descr=""/>
            <p:cNvPicPr/>
            <p:nvPr/>
          </p:nvPicPr>
          <p:blipFill>
            <a:blip r:embed="rId2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ángulo 4"/>
          <p:cNvSpPr/>
          <p:nvPr/>
        </p:nvSpPr>
        <p:spPr>
          <a:xfrm>
            <a:off x="75564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unos organismos acuáticos, como las anguilas eléctricas o un tipo de rayas llamadas torpedos o tembladeras, pueden producir electricidad en sus cuerpos y descargarla al agua para aturdir a sus presas o a sus depreda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ángulo 5"/>
          <p:cNvSpPr/>
          <p:nvPr/>
        </p:nvSpPr>
        <p:spPr>
          <a:xfrm>
            <a:off x="755640" y="112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roducción de electri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2" name="Agrupar 1"/>
          <p:cNvGrpSpPr/>
          <p:nvPr/>
        </p:nvGrpSpPr>
        <p:grpSpPr>
          <a:xfrm>
            <a:off x="900000" y="2781360"/>
            <a:ext cx="7302600" cy="3095640"/>
            <a:chOff x="900000" y="2781360"/>
            <a:chExt cx="7302600" cy="3095640"/>
          </a:xfrm>
        </p:grpSpPr>
        <p:pic>
          <p:nvPicPr>
            <p:cNvPr id="1103" name="Imagen 2" descr="tembladera_bd.jpg"/>
            <p:cNvPicPr/>
            <p:nvPr/>
          </p:nvPicPr>
          <p:blipFill>
            <a:blip r:embed="rId1"/>
            <a:srcRect l="0" t="26728" r="0" b="8584"/>
            <a:stretch/>
          </p:blipFill>
          <p:spPr>
            <a:xfrm>
              <a:off x="900000" y="2781360"/>
              <a:ext cx="73026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Rectángulo 7"/>
            <p:cNvSpPr/>
            <p:nvPr/>
          </p:nvSpPr>
          <p:spPr>
            <a:xfrm>
              <a:off x="971280" y="285264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emblader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5" name="Botón de acción: Inicio 8"/>
          <p:cNvGrpSpPr/>
          <p:nvPr/>
        </p:nvGrpSpPr>
        <p:grpSpPr>
          <a:xfrm>
            <a:off x="4145040" y="6119640"/>
            <a:ext cx="1133280" cy="628920"/>
            <a:chOff x="4145040" y="6119640"/>
            <a:chExt cx="1133280" cy="628920"/>
          </a:xfrm>
        </p:grpSpPr>
        <p:pic>
          <p:nvPicPr>
            <p:cNvPr id="1106" name="Botón de acción: Inicio 8" descr=""/>
            <p:cNvPicPr/>
            <p:nvPr/>
          </p:nvPicPr>
          <p:blipFill>
            <a:blip r:embed="rId2"/>
            <a:stretch/>
          </p:blipFill>
          <p:spPr>
            <a:xfrm>
              <a:off x="4145040" y="6119640"/>
              <a:ext cx="11332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4211640" y="616572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Vol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46:37Z</dcterms:modified>
  <cp:revision>16</cp:revision>
  <dc:subject/>
  <dc:title>Presentación de PowerPoint</dc:title>
</cp:coreProperties>
</file>